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64C-FDBB-49ED-884B-FF5F01F3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BF9-6261-40C1-8B20-0E0AF225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1DE-9ABF-4648-BB1C-AF8F7D8A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707-C0C3-4552-A82D-9E57BE0B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ED2A-D2B2-4174-98BA-0A90A5FF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FAD5-3012-4868-9DB7-EB36434C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697-AE13-4881-BC33-7AFE06A4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6ADF-76D9-4603-8BDB-C73E234E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F7BA-0978-42AF-BDD6-9BB09929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E23B-1D7D-4AB7-882D-07DB8FAA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9A91-EFA3-4B64-BC78-14100A4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106-596E-4422-8CF1-36FCE0D3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F8B0-AFCF-4533-92CE-9C04704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5EFE-C486-4396-9B8A-0D51FCA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B17F-5879-479C-A5E6-3FCE6E43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A31E-8B15-4BB9-B7DB-72BCDD8D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00D2-C571-451C-87F3-FD7942B6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498-4B6D-4DAC-9100-717AA43F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2F7-4FC7-4F0E-9159-1D5612D0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FF0-99D9-4C62-9F27-7791E756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32A-8F50-43E6-BAB6-E0E24512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23F-C4DC-49FF-9A30-F06CF974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364-7B89-4049-9F09-83472EAF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709-4790-4B46-BE04-966E42B2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AAE-FFCB-45BA-81CF-390A76526A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5026-F93C-435E-AE29-A04202279B8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（一）练一练 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（一）练一练 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1405080" y="1428840"/>
          <a:ext cx="6095880" cy="914400"/>
        </p:xfrm>
        <a:graphic>
          <a:graphicData uri="http://schemas.openxmlformats.org/drawingml/2006/table">
            <a:tbl>
              <a:tblPr/>
              <a:tblGrid>
                <a:gridCol w="3071520"/>
                <a:gridCol w="1000440"/>
                <a:gridCol w="1071360"/>
                <a:gridCol w="9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完成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效率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7" name="Rectangle 2"/>
          <p:cNvSpPr/>
          <p:nvPr/>
        </p:nvSpPr>
        <p:spPr>
          <a:xfrm>
            <a:off x="539640" y="85716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工一批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4662360" y="185724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"/>
          <p:cNvSpPr/>
          <p:nvPr/>
        </p:nvSpPr>
        <p:spPr>
          <a:xfrm>
            <a:off x="571680" y="240336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提出数学问题并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6734160" y="140328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1071720" y="290340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果需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完成，每天应该做多少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3438360" y="34034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×150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3071880" y="3786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0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3071880" y="4189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2571840" y="45720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每天应该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6" name=""/>
          <p:cNvGraphicFramePr/>
          <p:nvPr/>
        </p:nvGraphicFramePr>
        <p:xfrm>
          <a:off x="1405080" y="2668680"/>
          <a:ext cx="6095880" cy="914400"/>
        </p:xfrm>
        <a:graphic>
          <a:graphicData uri="http://schemas.openxmlformats.org/drawingml/2006/table">
            <a:tbl>
              <a:tblPr/>
              <a:tblGrid>
                <a:gridCol w="3071520"/>
                <a:gridCol w="1000440"/>
                <a:gridCol w="1071360"/>
                <a:gridCol w="9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砖的面积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分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用砖数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7" name="Rectangle 2"/>
          <p:cNvSpPr/>
          <p:nvPr/>
        </p:nvSpPr>
        <p:spPr>
          <a:xfrm>
            <a:off x="357120" y="85716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间房子用每块面积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分米的方砖铺地，至少需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块。如果用每块面积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分米的方砖铺地，至少需要多少块？如果用砖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块，每块砖的面积是多少平方分米？怎样解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"/>
          <p:cNvSpPr/>
          <p:nvPr/>
        </p:nvSpPr>
        <p:spPr>
          <a:xfrm>
            <a:off x="571680" y="3643200"/>
            <a:ext cx="692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哪两种量是相依变化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哪一种量是不变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怎样找两种变量中相对应的两个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1571760" y="40719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砖的面积和用砖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4643280" y="450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房子的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"/>
          <p:cNvGraphicFramePr/>
          <p:nvPr/>
        </p:nvGraphicFramePr>
        <p:xfrm>
          <a:off x="1357200" y="2000160"/>
          <a:ext cx="6096240" cy="10368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1" name="Rectangle 2"/>
          <p:cNvSpPr/>
          <p:nvPr/>
        </p:nvSpPr>
        <p:spPr>
          <a:xfrm>
            <a:off x="500040" y="9288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两种量成反比例，把下表填写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说你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1"/>
          <p:cNvSpPr/>
          <p:nvPr/>
        </p:nvSpPr>
        <p:spPr>
          <a:xfrm>
            <a:off x="2237760" y="2500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1"/>
          <p:cNvSpPr/>
          <p:nvPr/>
        </p:nvSpPr>
        <p:spPr>
          <a:xfrm>
            <a:off x="3210480" y="2000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1"/>
          <p:cNvSpPr/>
          <p:nvPr/>
        </p:nvSpPr>
        <p:spPr>
          <a:xfrm>
            <a:off x="4111920" y="254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1"/>
          <p:cNvSpPr/>
          <p:nvPr/>
        </p:nvSpPr>
        <p:spPr>
          <a:xfrm>
            <a:off x="4880880" y="2000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1"/>
          <p:cNvSpPr/>
          <p:nvPr/>
        </p:nvSpPr>
        <p:spPr>
          <a:xfrm>
            <a:off x="6710760" y="254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86000" y="3214800"/>
            <a:ext cx="4444920" cy="30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8" name=""/>
          <p:cNvGraphicFramePr/>
          <p:nvPr/>
        </p:nvGraphicFramePr>
        <p:xfrm>
          <a:off x="1571760" y="1414440"/>
          <a:ext cx="6572160" cy="1371600"/>
        </p:xfrm>
        <a:graphic>
          <a:graphicData uri="http://schemas.openxmlformats.org/drawingml/2006/table">
            <a:tbl>
              <a:tblPr/>
              <a:tblGrid>
                <a:gridCol w="2857320"/>
                <a:gridCol w="1000080"/>
                <a:gridCol w="857520"/>
                <a:gridCol w="928440"/>
                <a:gridCol w="9288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周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速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9" name="Rectangle 2"/>
          <p:cNvSpPr/>
          <p:nvPr/>
        </p:nvSpPr>
        <p:spPr>
          <a:xfrm>
            <a:off x="500040" y="7858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录入同一份稿件，四个人打字的时间和速度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"/>
          <p:cNvSpPr/>
          <p:nvPr/>
        </p:nvSpPr>
        <p:spPr>
          <a:xfrm>
            <a:off x="500040" y="276228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下图中描点连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11"/>
          <p:cNvSpPr/>
          <p:nvPr/>
        </p:nvSpPr>
        <p:spPr>
          <a:xfrm>
            <a:off x="428616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17"/>
          <p:cNvSpPr/>
          <p:nvPr/>
        </p:nvSpPr>
        <p:spPr>
          <a:xfrm>
            <a:off x="4572000" y="407196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18"/>
          <p:cNvSpPr/>
          <p:nvPr/>
        </p:nvSpPr>
        <p:spPr>
          <a:xfrm>
            <a:off x="5214960" y="4643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19"/>
          <p:cNvSpPr/>
          <p:nvPr/>
        </p:nvSpPr>
        <p:spPr>
          <a:xfrm>
            <a:off x="5786280" y="500076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21"/>
          <p:cNvSpPr/>
          <p:nvPr/>
        </p:nvSpPr>
        <p:spPr>
          <a:xfrm>
            <a:off x="4357080" y="3571920"/>
            <a:ext cx="2854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24"/>
          <p:cNvSpPr/>
          <p:nvPr/>
        </p:nvSpPr>
        <p:spPr>
          <a:xfrm>
            <a:off x="4643280" y="4143240"/>
            <a:ext cx="693720" cy="62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26"/>
          <p:cNvSpPr/>
          <p:nvPr/>
        </p:nvSpPr>
        <p:spPr>
          <a:xfrm>
            <a:off x="5286240" y="4714920"/>
            <a:ext cx="622440" cy="40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86000" y="1200240"/>
            <a:ext cx="4444920" cy="3085920"/>
          </a:xfrm>
          <a:prstGeom prst="rect">
            <a:avLst/>
          </a:prstGeom>
          <a:ln w="0">
            <a:noFill/>
          </a:ln>
        </p:spPr>
      </p:pic>
      <p:sp>
        <p:nvSpPr>
          <p:cNvPr id="759" name="椭圆 5"/>
          <p:cNvSpPr/>
          <p:nvPr/>
        </p:nvSpPr>
        <p:spPr>
          <a:xfrm>
            <a:off x="4286160" y="1486080"/>
            <a:ext cx="14292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6"/>
          <p:cNvSpPr/>
          <p:nvPr/>
        </p:nvSpPr>
        <p:spPr>
          <a:xfrm>
            <a:off x="4572000" y="205740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7"/>
          <p:cNvSpPr/>
          <p:nvPr/>
        </p:nvSpPr>
        <p:spPr>
          <a:xfrm>
            <a:off x="5214960" y="2629080"/>
            <a:ext cx="14292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9"/>
          <p:cNvSpPr/>
          <p:nvPr/>
        </p:nvSpPr>
        <p:spPr>
          <a:xfrm>
            <a:off x="5786280" y="298620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10"/>
          <p:cNvSpPr/>
          <p:nvPr/>
        </p:nvSpPr>
        <p:spPr>
          <a:xfrm>
            <a:off x="4357080" y="1557360"/>
            <a:ext cx="2854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1"/>
          <p:cNvSpPr/>
          <p:nvPr/>
        </p:nvSpPr>
        <p:spPr>
          <a:xfrm>
            <a:off x="4643280" y="2128680"/>
            <a:ext cx="693720" cy="62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13"/>
          <p:cNvSpPr/>
          <p:nvPr/>
        </p:nvSpPr>
        <p:spPr>
          <a:xfrm>
            <a:off x="5286240" y="2700360"/>
            <a:ext cx="622440" cy="40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500040" y="7858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录入同一份稿件，四个人打字的时间和速度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434880" y="41432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打字的速度和时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朱军录入这份稿件用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。不计算，从图中可以看出他一分钟大约打多少个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1"/>
          <p:cNvSpPr/>
          <p:nvPr/>
        </p:nvSpPr>
        <p:spPr>
          <a:xfrm>
            <a:off x="3643200" y="45482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例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21"/>
          <p:cNvSpPr/>
          <p:nvPr/>
        </p:nvSpPr>
        <p:spPr>
          <a:xfrm>
            <a:off x="3643200" y="58341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86000" y="1343160"/>
            <a:ext cx="4444920" cy="3085920"/>
          </a:xfrm>
          <a:prstGeom prst="rect">
            <a:avLst/>
          </a:prstGeom>
          <a:ln w="0">
            <a:noFill/>
          </a:ln>
        </p:spPr>
      </p:pic>
      <p:sp>
        <p:nvSpPr>
          <p:cNvPr id="771" name="椭圆 5"/>
          <p:cNvSpPr/>
          <p:nvPr/>
        </p:nvSpPr>
        <p:spPr>
          <a:xfrm>
            <a:off x="4286160" y="16286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 6"/>
          <p:cNvSpPr/>
          <p:nvPr/>
        </p:nvSpPr>
        <p:spPr>
          <a:xfrm>
            <a:off x="4572000" y="220032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5214960" y="27716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椭圆 9"/>
          <p:cNvSpPr/>
          <p:nvPr/>
        </p:nvSpPr>
        <p:spPr>
          <a:xfrm>
            <a:off x="5786280" y="3129120"/>
            <a:ext cx="14292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10"/>
          <p:cNvSpPr/>
          <p:nvPr/>
        </p:nvSpPr>
        <p:spPr>
          <a:xfrm>
            <a:off x="4357080" y="1700280"/>
            <a:ext cx="2854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11"/>
          <p:cNvSpPr/>
          <p:nvPr/>
        </p:nvSpPr>
        <p:spPr>
          <a:xfrm>
            <a:off x="4643280" y="2271600"/>
            <a:ext cx="693720" cy="62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13"/>
          <p:cNvSpPr/>
          <p:nvPr/>
        </p:nvSpPr>
        <p:spPr>
          <a:xfrm>
            <a:off x="5286240" y="2843280"/>
            <a:ext cx="622440" cy="40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500040" y="9288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录入同一份稿件，四个人打字的时间和速度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434880" y="42861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李琼每分钟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字。不计算，从图中可以看出她大约用多少分钟可以录完这份稿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1"/>
          <p:cNvSpPr/>
          <p:nvPr/>
        </p:nvSpPr>
        <p:spPr>
          <a:xfrm>
            <a:off x="3143160" y="5191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539640" y="85716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图是两个互相咬合的齿轮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大齿轮转动时，小齿轮怎样转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大齿轮和小齿轮在同一时间内转动，它们转过的总齿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它们的转数是否相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1"/>
          <p:cNvSpPr/>
          <p:nvPr/>
        </p:nvSpPr>
        <p:spPr>
          <a:xfrm>
            <a:off x="7008120" y="3857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时转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1"/>
          <p:cNvSpPr/>
          <p:nvPr/>
        </p:nvSpPr>
        <p:spPr>
          <a:xfrm>
            <a:off x="4505760" y="471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1"/>
          <p:cNvSpPr/>
          <p:nvPr/>
        </p:nvSpPr>
        <p:spPr>
          <a:xfrm>
            <a:off x="1500120" y="559584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相等，大齿轮转数少，小齿轮转数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10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214800" y="149544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539640" y="100008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图是两个互相咬合的齿轮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哪个齿轮的转数少？哪个齿轮的转数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转过的总齿数、齿轮的齿数和转数这三种量中，哪一种是不变量？另外两种量是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1"/>
          <p:cNvSpPr/>
          <p:nvPr/>
        </p:nvSpPr>
        <p:spPr>
          <a:xfrm>
            <a:off x="3841920" y="44053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齿轮转数少，小齿轮转数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10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214800" y="1566720"/>
            <a:ext cx="2743200" cy="2362320"/>
          </a:xfrm>
          <a:prstGeom prst="rect">
            <a:avLst/>
          </a:prstGeom>
          <a:ln w="0">
            <a:noFill/>
          </a:ln>
        </p:spPr>
      </p:pic>
      <p:sp>
        <p:nvSpPr>
          <p:cNvPr id="789" name="Rectangle 21"/>
          <p:cNvSpPr/>
          <p:nvPr/>
        </p:nvSpPr>
        <p:spPr>
          <a:xfrm>
            <a:off x="1796040" y="571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过的总齿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1"/>
          <p:cNvSpPr/>
          <p:nvPr/>
        </p:nvSpPr>
        <p:spPr>
          <a:xfrm>
            <a:off x="4316400" y="5762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"/>
          <p:cNvSpPr/>
          <p:nvPr/>
        </p:nvSpPr>
        <p:spPr>
          <a:xfrm>
            <a:off x="539640" y="85716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图是两个互相咬合的齿轮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若大齿轮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齿，每分钟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。小齿轮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齿，每分钟转多少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1"/>
          <p:cNvSpPr/>
          <p:nvPr/>
        </p:nvSpPr>
        <p:spPr>
          <a:xfrm>
            <a:off x="2588760" y="507204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×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10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214800" y="1424160"/>
            <a:ext cx="2743200" cy="236196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21"/>
          <p:cNvSpPr/>
          <p:nvPr/>
        </p:nvSpPr>
        <p:spPr>
          <a:xfrm>
            <a:off x="2532960" y="5477040"/>
            <a:ext cx="20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1"/>
          <p:cNvSpPr/>
          <p:nvPr/>
        </p:nvSpPr>
        <p:spPr>
          <a:xfrm>
            <a:off x="2967480" y="5857920"/>
            <a:ext cx="145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1"/>
          <p:cNvSpPr/>
          <p:nvPr/>
        </p:nvSpPr>
        <p:spPr>
          <a:xfrm>
            <a:off x="2561400" y="4691160"/>
            <a:ext cx="28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小齿轮每分钟转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1"/>
          <p:cNvSpPr/>
          <p:nvPr/>
        </p:nvSpPr>
        <p:spPr>
          <a:xfrm>
            <a:off x="5079960" y="583416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小齿轮每分钟转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1405080" y="1428840"/>
          <a:ext cx="6095880" cy="914400"/>
        </p:xfrm>
        <a:graphic>
          <a:graphicData uri="http://schemas.openxmlformats.org/drawingml/2006/table">
            <a:tbl>
              <a:tblPr/>
              <a:tblGrid>
                <a:gridCol w="3071520"/>
                <a:gridCol w="1000440"/>
                <a:gridCol w="1071360"/>
                <a:gridCol w="9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完成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效率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9" name="Rectangle 2"/>
          <p:cNvSpPr/>
          <p:nvPr/>
        </p:nvSpPr>
        <p:spPr>
          <a:xfrm>
            <a:off x="539640" y="85716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工一批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4662360" y="185724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571680" y="240336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完成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分别写出完成时间的比和工作效率的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6734160" y="140328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3019320" y="321480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2143080" y="366876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2786040" y="41180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31:20Z</dcterms:created>
  <dc:creator/>
  <dc:description/>
  <dc:language>en-US</dc:language>
  <cp:lastModifiedBy/>
  <dcterms:modified xsi:type="dcterms:W3CDTF">2017-03-15T05:31:23Z</dcterms:modified>
  <cp:revision>1</cp:revision>
  <dc:subject/>
  <dc:title/>
</cp:coreProperties>
</file>